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482-4E2B-4D85-9C61-D35D8B0A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A54-3D72-4403-9841-A1450516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7B3-8229-4396-BEFB-87BA8F33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242-C5B0-466B-8B9C-89A77E3C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FA6-21D3-4E94-9C61-B39A5A87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060-1AF9-4689-B58E-656550CA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495-9CEA-4A3A-99EE-886AF283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3CD-4B11-45EE-BE9E-CE870715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D5C-4CF9-46FB-A157-694DB09E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8FF-7930-4412-8234-AB0686ED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E56-EBB5-4862-B9C1-65ADF98D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5A7-D398-4879-8C9F-7577830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0765-44DC-48EA-A36C-9F1DC5CEC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468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c 8"/>
          <p:cNvSpPr/>
          <p:nvPr/>
        </p:nvSpPr>
        <p:spPr>
          <a:xfrm rot="901200">
            <a:off x="3158640" y="1304640"/>
            <a:ext cx="2324160" cy="14335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2"/>
          <p:cNvSpPr/>
          <p:nvPr/>
        </p:nvSpPr>
        <p:spPr>
          <a:xfrm flipH="1" rot="876600">
            <a:off x="3275640" y="1066320"/>
            <a:ext cx="2055600" cy="20923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3"/>
          <p:cNvSpPr/>
          <p:nvPr/>
        </p:nvSpPr>
        <p:spPr>
          <a:xfrm>
            <a:off x="2895480" y="3200400"/>
            <a:ext cx="2438640" cy="2590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0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8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Рисунок1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Елена</cp:lastModifiedBy>
  <dcterms:modified xsi:type="dcterms:W3CDTF">2012-10-17T18:41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